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16A-D152-46C4-9EEF-C236483A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80B-A4B2-460C-AB06-18E4176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17F-F707-463B-AF90-277A40E8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ECB-4AAA-4CEE-AF29-2D3D6025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1D2E-8653-44EE-9E05-C983D763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079E-DA37-4909-B90F-1A8EC4A1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23D8-4CC3-4F03-B276-D82413D7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9B66-5F54-4FD9-A518-F41A1411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888A-2A78-45BA-AFEE-6C7C349D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DAD2-8A43-4A88-995F-ACB1F412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6BDF-8663-45B5-BE8E-560F0839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A92-5537-46FA-9D6B-ECCBFBCA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8228-77F5-4253-9EE7-0D03007F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3A96-9192-4172-A6C1-F96D9B18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FF00-A680-476A-BDCC-B11A870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A6DE-CFD7-47DE-A001-1FD11AE8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E0C8-284B-42EC-BB50-B7C119A8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EDC-030F-4D2D-9AF4-64CAABA8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91D-94EC-4701-88FA-5F5CECCC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339-9D04-43ED-85C9-AB5F8786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860-1E23-405F-8803-E57EF82D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3C6-CB2E-48A6-9B09-5A059F5F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351-1BE1-4410-A4AC-12085366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27F-99B8-472D-B12A-1DDD4F13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1372-75E8-41FA-ABB3-536201C0BA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A839-C584-40A6-AA20-CC146AAB85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Image:Death_of_Marat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  <a:ea typeface="굴림"/>
              </a:rPr>
              <a:t>The Second Revolu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Heads Begin to Ro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Part 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굴림"/>
              </a:rPr>
              <a:t>The Reign of Terror (Autumn 1793 – Midsummer 1794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The Republic is Defend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1793 France is at war with Europe except 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irondist General Dumouriez – victor at Valmy – deserts to the ene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Royalists revolt in the Vendee in western F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Internal and external wars create a need for action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634240" y="6172200"/>
            <a:ext cx="509760" cy="457200"/>
          </a:xfrm>
          <a:custGeom>
            <a:avLst/>
            <a:gdLst>
              <a:gd name="textAreaLeft" fmla="*/ 29520 w 509760"/>
              <a:gd name="textAreaRight" fmla="*/ 480240 w 509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4081" h="21600">
                <a:moveTo>
                  <a:pt x="0" y="0"/>
                </a:moveTo>
                <a:lnTo>
                  <a:pt x="24081" y="0"/>
                </a:lnTo>
                <a:lnTo>
                  <a:pt x="24081" y="21600"/>
                </a:lnTo>
                <a:lnTo>
                  <a:pt x="0" y="21600"/>
                </a:lnTo>
                <a:close/>
              </a:path>
              <a:path fill="lightenLess" w="24081" h="21600">
                <a:moveTo>
                  <a:pt x="0" y="0"/>
                </a:moveTo>
                <a:lnTo>
                  <a:pt x="24081" y="0"/>
                </a:lnTo>
                <a:lnTo>
                  <a:pt x="22681" y="1400"/>
                </a:lnTo>
                <a:lnTo>
                  <a:pt x="1400" y="1400"/>
                </a:lnTo>
                <a:close/>
              </a:path>
              <a:path fill="darken" w="24081" h="21600">
                <a:moveTo>
                  <a:pt x="24081" y="0"/>
                </a:moveTo>
                <a:lnTo>
                  <a:pt x="24081" y="21600"/>
                </a:lnTo>
                <a:lnTo>
                  <a:pt x="22681" y="20200"/>
                </a:lnTo>
                <a:lnTo>
                  <a:pt x="22681" y="1400"/>
                </a:lnTo>
                <a:close/>
              </a:path>
              <a:path fill="darkenLess" w="24081" h="21600">
                <a:moveTo>
                  <a:pt x="2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1" y="20200"/>
                </a:lnTo>
                <a:close/>
              </a:path>
              <a:path fill="lighten" w="2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432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굴림"/>
              </a:rPr>
              <a:t>Committee of Public Safe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This organization becomes a dictatorship (emergencies need th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Key leade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orge Danton (1759-179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Maximilien Robspierre (1758-179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Lazare Carnot (1753-182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Jean Paul Marat (1743-179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524400" cy="3981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90920" y="2895480"/>
            <a:ext cx="2581200" cy="3267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419720" y="4572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858000" y="45720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Death of Marat by  (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05440" y="2590920"/>
            <a:ext cx="32385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Challenge was to wage war and gain support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levee en mas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velop civic spirit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Republic of Virt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Went too far, though;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christianized Fran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Notre Dam Cathedral changed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emple of Reas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Forced priests to mar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The French Calend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stroy “enemies” of the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Included leadership of Jacobins by 17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ecutions during the Reig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letaria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urgeoisi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b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r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6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2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the above support the notion that the revolution was about removing the privileged classes in French society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굴림"/>
              </a:rPr>
              <a:t>The End of the Terr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Robspierre went too fa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His own dictato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Killed enemies real and imagined, bu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Never gained any suppor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Knew that forced secularism was too abstract, but attempted to replace it with Cult of the Supreme Be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Soon he was arrested and execu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63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굴림"/>
              </a:rPr>
              <a:t>Thermidorian Reaction &amp; Establishment of the Directo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July, 17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Repeal of Law of 22 Prairial (this is what gave the Committee extra-judicial pow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Sans-culottes replaced by bourgeois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ris Jacobin Club closed; Girondins 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Replaced fully democratic constitution of 1793 with Constitution of Year II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Bicameral legislature (Upper house: Council of Elders; Lower house: Council of 5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ve person executive (the Directory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A riot in October of 1795 by the people of a section of Paris was put down by Napoleon with a “whiff of grapesho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French leadership had finally turned on its people in the 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In the end the only group that managed to gain political power were the bourgeois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Economic problems still plagued France, till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굴림"/>
              </a:rPr>
              <a:t>End of the Monarc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War against Prussia and Austria was going poor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Parisians were growing restless wit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W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Legislative Assemb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King and family are arrested and imprisoned…a nice prison, th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Napoleon's whiff of grapeshot"/>
          <p:cNvPicPr/>
          <p:nvPr/>
        </p:nvPicPr>
        <p:blipFill>
          <a:blip r:embed="rId1"/>
          <a:stretch/>
        </p:blipFill>
        <p:spPr>
          <a:xfrm>
            <a:off x="2438280" y="228600"/>
            <a:ext cx="44816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굴림"/>
              </a:rPr>
              <a:t>September Massacres (fall 1792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ris mob goes on a killing sp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ranoia grips them; Verdun is threatened by Prussian A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Fear of counter-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1,200 people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Many brutally, lik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42004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ncess Mme de Lamball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One of the victims of the September Massac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She w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rip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a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til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er heart was ea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굴림"/>
              </a:rPr>
              <a:t>Immediate Results of the Parisian Mob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all for replacing the Legislative Assembly with Convention (National Conven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N.B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states General – National Assembly – Legislative Assembly – National Convention (Republic) - (later) -  Committee of Public Safety – The Direc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Universal male suffr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 new constit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l this by 21 September 179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e day before French forces halt the combined armies of Austria and Prussia at the Battle of Val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429000" cy="2886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073320"/>
            <a:ext cx="53341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굴림"/>
              </a:rPr>
              <a:t>The Sans-Culot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ey become the force of radicalism of the rev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ithout breech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tisans, shop-keepers, wage earners, and factory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Bitter over the unrestricted use of free-market princi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ngry with the original leaders of the rev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lied with Jacob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8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굴림"/>
              </a:rPr>
              <a:t>The Execution of Louis XVI, Citizen Capet (January 21, 1793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o create a Republ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acobins seek to execu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irondins seek clemency, as do mode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ouis convicted of conspiring against the liberty of the people and the security of the st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aris mob sees Girondins and moderates as enemies of the rev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7242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  <a:ea typeface="굴림"/>
              </a:rPr>
              <a:t>The Terror and the Arrival of Napoleon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The French Revolution’s Final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2:39:56Z</dcterms:created>
  <dc:creator>Generic</dc:creator>
  <dc:description/>
  <dc:language>en-US</dc:language>
  <cp:lastModifiedBy>hughp</cp:lastModifiedBy>
  <dcterms:modified xsi:type="dcterms:W3CDTF">2007-03-20T21:09:43Z</dcterms:modified>
  <cp:revision>10</cp:revision>
  <dc:subject/>
  <dc:title>The Second Revolution</dc:title>
</cp:coreProperties>
</file>